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55A-A7DE-4DA5-A4B3-8F246D7B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FDC-7178-4B3B-823F-1B2EEB62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688-95B8-45DC-BCE0-C5C9549D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872-591B-4E23-80C6-94A3312A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0EB-A5B6-4796-885F-055ACAF9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AB6-40B5-47AC-BA26-BDAD5E35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EC1-1CE6-4028-9014-DAB8A1BE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E12-DE4D-4CB4-988E-59D7887C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375-220B-4204-9972-C4D9B53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CCB-0747-4350-85CA-1FEBBC2B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779-A37A-41E4-ACBF-7F31A9AF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4D6-28AC-4BE6-8EAF-0885B199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0EBC08-5070-4DEB-A6C6-60AC36EEC7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Some background on 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7623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Columb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talian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n born in Genoa in 14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erchant sailor who lived in Portugal and the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Very interested in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4146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y did he set sa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believed that you could sail </a:t>
            </a:r>
            <a:r>
              <a:rPr b="0" i="1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est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from Europe (across the Atlantic Ocean) to reach Asia more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sia (specifically the major civilizations in China and India) could be a source of wealth from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lso wanted to spread Christianity to other parts of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o financed his tr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several unsuccessful sales pitches to other European monarchs, Queen Isabella of Spain agreed to pay for the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umbus would become governor of any land he found and could keep 1/10</a:t>
            </a:r>
            <a:r>
              <a:rPr b="0" lang="en-US" sz="3200" spc="-1" strike="noStrike" baseline="33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of the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ll else would belong to the Spanish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339920"/>
            <a:ext cx="320040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n October, 1492, his three ships landed in what is now the Bahamas in the Caribbean Se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nd his crew explored several islands in the area, including Cuba and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ispaniola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before returning to Sp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3080" y="2205000"/>
            <a:ext cx="470232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e had la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956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thought he landed on islands off the coast of Asia, known to Europeans as “the Indies.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herefore, he called the islands the West In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ith whom was his first encou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00320"/>
            <a:ext cx="401652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ir island explorations, the Spanish met the Arawak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the Arawaks were the native people of “the Indies,” Columbus called th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 in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nding of Columbus on the Islands of Guanahani, West Indies”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hn Vanderlyn (1836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U.S. Capital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1981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mbarkation at Veracruz”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go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51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National Gallery in Mexico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61545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3:27:25Z</dcterms:created>
  <dc:creator>Dominic Lambek</dc:creator>
  <dc:description/>
  <dc:language>en-US</dc:language>
  <cp:lastModifiedBy>Dominic Lambek</cp:lastModifiedBy>
  <dcterms:modified xsi:type="dcterms:W3CDTF">2008-09-04T04:00:41Z</dcterms:modified>
  <cp:revision>2</cp:revision>
  <dc:subject/>
  <dc:title>Christopher Columbus and the “discovery” of the New World</dc:title>
</cp:coreProperties>
</file>